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gif" ContentType="image/gif"/>
  <Override PartName="/ppt/media/image3.gif" ContentType="image/gif"/>
  <Override PartName="/ppt/media/APPLAUSE.WAV" ContentType="audio/x-wav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235080"/>
            <a:ext cx="8458200" cy="633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cc"/>
                </a:solidFill>
                <a:latin typeface="AbcBulletin"/>
              </a:rPr>
              <a:t>Guess the Covered Word</a:t>
            </a:r>
            <a:endParaRPr b="0" lang="en-US" sz="72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Spelling Words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Week 23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4952880"/>
            <a:ext cx="7391520" cy="70344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bcPrint"/>
              </a:rPr>
              <a:t>Where did my </a:t>
            </a:r>
            <a:r>
              <a:rPr b="0" lang="en-US" sz="4000" spc="-1" strike="noStrike">
                <a:solidFill>
                  <a:srgbClr val="3333cc"/>
                </a:solidFill>
                <a:latin typeface="AbcPrint"/>
              </a:rPr>
              <a:t>friend</a:t>
            </a:r>
            <a:r>
              <a:rPr b="0" lang="en-US" sz="4000" spc="-1" strike="noStrike">
                <a:solidFill>
                  <a:srgbClr val="ff0000"/>
                </a:solidFill>
                <a:latin typeface="AbcPrint"/>
              </a:rPr>
              <a:t> Jerry g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3244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4343400"/>
            <a:ext cx="723888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If she 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does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 her best work, she will get good grad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34340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3434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4400" y="4419720"/>
            <a:ext cx="723888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If she 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does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 her best work, she will get good grad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3434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38080" y="76212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ook at th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s quickly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n we wil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pell the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gether b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hanting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05120" y="236232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becaus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wh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cc33"/>
                </a:solidFill>
                <a:latin typeface="AbcPrint"/>
              </a:rPr>
              <a:t>wan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33720" y="220968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frien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do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95480" y="762120"/>
            <a:ext cx="3427560" cy="3871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48769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cPrint"/>
              </a:rPr>
              <a:t>Mickey says, “You did A-OK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609480"/>
            <a:ext cx="69343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 Bold"/>
              </a:rPr>
              <a:t>Say the word as the arrow points 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ff0000"/>
                </a:solidFill>
                <a:latin typeface="AbcPrint"/>
              </a:rPr>
              <a:t>bec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AbcPrint"/>
              </a:rPr>
              <a:t>w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w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00cc"/>
                </a:solidFill>
                <a:latin typeface="AbcPrint"/>
              </a:rPr>
              <a:t>fri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33"/>
                </a:solidFill>
                <a:latin typeface="AbcPrint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3623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20040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0384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8769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6386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3886200"/>
            <a:ext cx="716256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The girl is sad </a:t>
            </a: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because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 the cat hurt her a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3962520"/>
            <a:ext cx="20574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41972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3886200"/>
            <a:ext cx="716256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The girl is sad </a:t>
            </a: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because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 the cat hurt her a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41972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572000"/>
            <a:ext cx="7238880" cy="764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Why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is he running aw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46483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350532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572000"/>
            <a:ext cx="7238880" cy="764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Why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is he running aw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350532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4419720"/>
            <a:ext cx="739152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I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want</a:t>
            </a: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 to play in the mu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4495680"/>
            <a:ext cx="12952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95288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4419720"/>
            <a:ext cx="739152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I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want</a:t>
            </a: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 to play in the mu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95288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4800600"/>
            <a:ext cx="7391520" cy="70344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bcPrint"/>
              </a:rPr>
              <a:t>Where did my </a:t>
            </a:r>
            <a:r>
              <a:rPr b="0" lang="en-US" sz="4000" spc="-1" strike="noStrike">
                <a:solidFill>
                  <a:srgbClr val="3333cc"/>
                </a:solidFill>
                <a:latin typeface="AbcPrint"/>
              </a:rPr>
              <a:t>friend</a:t>
            </a:r>
            <a:r>
              <a:rPr b="0" lang="en-US" sz="4000" spc="-1" strike="noStrike">
                <a:solidFill>
                  <a:srgbClr val="ff0000"/>
                </a:solidFill>
                <a:latin typeface="AbcPrint"/>
              </a:rPr>
              <a:t> Jerry g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4800600"/>
            <a:ext cx="144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244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9-03-16T01:55:20Z</dcterms:modified>
  <cp:revision>20</cp:revision>
  <dc:subject/>
  <dc:title>Guess the Covered Word</dc:title>
</cp:coreProperties>
</file>